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07A-9CF5-47E0-9716-82F1BD16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B2E-955C-417A-836A-1F702C44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367-8A87-47BE-AA34-9886DD38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577-7C94-4AA3-A98B-5CA3A1F9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5871-EFD8-41EE-AD1A-D6F7719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518-E3FC-4710-B665-203A0EB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B96-1906-4618-BBE7-EC5DBC4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0EAE-BF27-4584-9EB9-CE2140D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BA7-32DD-4E73-8F65-1191215D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E1C-E31B-44C9-A1B7-E23767A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45B-7CAA-47DD-A0B3-BC1F4DC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B77-7691-4D82-94D5-8AE4D0D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D76-9063-4A2F-996C-6038ADFA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55A-1297-4E7A-8B30-72B0ABB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86AA-F68D-4F2E-B18F-95C2BE1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FFBC-638B-462C-AECC-E6D52132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92A3-0C63-49D3-9269-0F010512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C7C-06C3-46BE-AA5F-952DDB74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751-3CD9-44B5-9304-864ABB67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F27-E78D-426F-9FA4-229D2BD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262-6794-40C2-BD14-E95DA276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48B-69EB-4469-A145-0107E141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A77-DA79-40E4-95A1-B2E2AD1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13D-92BD-453F-84DE-75A6AC69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5608-B48B-40FD-8E1C-480808BF05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215-9B53-4454-82E3-806F023AD1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../../../Howell%20Spencer/LEGO&apos;S%20STH.ppt" TargetMode="External"/><Relationship Id="rId5" Type="http://schemas.openxmlformats.org/officeDocument/2006/relationships/hyperlink" Target="file:///../../../Howell%20Spencer/LEGO&apos;S%20STH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0"/>
            <a:ext cx="9144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86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'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86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8098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Spe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373"/>
                </a:solidFill>
                <a:latin typeface="Arial"/>
              </a:rPr>
              <a:t>Computer#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ion:lego’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ovable bricks Lego's were invented in 1934 of w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soon changed from wood to brightly colored plast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1955 Lego’s launched  as the new system of pl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made a big hit on adults and childr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go’s sustained a big field and kept it like that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Ole Kirk Christian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as born in 1891 in Filskov Denmar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1944 his toy factory burned down but his focus was still on toy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iansen’s son started to make the wooden toy’s out of brightly colored plasti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e Kirk deeded when his son became vice President of his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on the little plastic bricks were named Lego’s, the whole system of play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Christiansen"/>
          <p:cNvPicPr/>
          <p:nvPr/>
        </p:nvPicPr>
        <p:blipFill>
          <a:blip r:embed="rId1"/>
          <a:srcRect l="34352" t="0" r="0" b="0"/>
          <a:stretch/>
        </p:blipFill>
        <p:spPr>
          <a:xfrm>
            <a:off x="0" y="0"/>
            <a:ext cx="5257800" cy="304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Christiansen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533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504360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61722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3057480"/>
            <a:ext cx="5257800" cy="22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0200" y="5715000"/>
            <a:ext cx="65530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Lemelson,MIT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program,Legos,10/14/10//http;//web,MIT,edu/invent/iow/Chistianse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6Z</dcterms:created>
  <dc:creator>install</dc:creator>
  <dc:description/>
  <dc:language>en-US</dc:language>
  <cp:lastModifiedBy>install</cp:lastModifiedBy>
  <dcterms:modified xsi:type="dcterms:W3CDTF">2010-10-14T17:29:23Z</dcterms:modified>
  <cp:revision>16</cp:revision>
  <dc:subject/>
  <dc:title>Slide 1</dc:title>
</cp:coreProperties>
</file>